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83A5-69F1-47A9-AE81-C69A6578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F6F1-B48E-4183-96DB-A54FE4F0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75E4-C312-480C-9952-E3EDE19D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5E0D-C8A2-4384-9B8A-8FBBB477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9367-AF78-4320-8E99-515BA1A4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F19E-FFA8-4901-AC2A-B6106988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AF66-6AE2-4D5E-9359-D2C30B79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3573-90E2-4DF1-90FC-79644A50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872C-0F3E-4418-9FA2-84342A94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F072-EF90-4EE4-A0D9-5750664B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18C2-50CB-4FC2-9467-4D5ECB1D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50B9-28A5-4CA4-A2E8-14D83970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95C9-D8A3-4F47-A9BF-9A30DBC2D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838080"/>
            <a:ext cx="4114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>
                    <a:alpha val="63000"/>
                  </a:srgbClr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auhaus 93"/>
              </a:rPr>
              <a:t>Symmetry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>
                  <a:alpha val="63000"/>
                </a:srgbClr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auhaus 93"/>
              <a:ea typeface="Bauhaus 93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1605240" cy="1808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flipH="1">
            <a:off x="2209320" y="4038480"/>
            <a:ext cx="1605240" cy="1808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943600" y="914400"/>
            <a:ext cx="1824120" cy="1598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91320" y="3352680"/>
            <a:ext cx="20620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72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8:35:50Z</dcterms:created>
  <dc:creator>Patrick Mooney</dc:creator>
  <dc:description/>
  <dc:language>en-US</dc:language>
  <cp:lastModifiedBy>Patrick Mooney</cp:lastModifiedBy>
  <dcterms:modified xsi:type="dcterms:W3CDTF">2009-05-13T18:55:25Z</dcterms:modified>
  <cp:revision>7</cp:revision>
  <dc:subject/>
  <dc:title>Slide 1</dc:title>
</cp:coreProperties>
</file>